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6B95C-1B2C-48B4-84DD-1BE39B6BD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:  Assessing Your Children’s Ministr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 is a matrix for you to use.  Each of the eight principles is based on a chapter in this book by Larry Fowler.  Each is listed, followed by four suggestions from the corresponding chapter as to how it might be accomplished in your church.  A blank line is included for you to add your own suggestions.  A rating scale is on the left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’s how to use it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Use the scale for a pretest with your children’s workers.  See how they rate your ministry right now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elf-test once every six months.  Track your progres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Finally, use it as a tool for peer evaluation when you ask another church to come give you its perspective on how you are doing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5F2EA-EBAF-41F8-A90F-C8F42A2C02CE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Standards Scor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57315-4771-414F-A0EC-32775B641591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1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0"/>
                </a:solidFill>
                <a:latin typeface="Humanst521 BT"/>
              </a:rPr>
              <a:t>Ministering to children is a high prior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urch budgeting reflects a priority on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Facility use and conditions reflect the importance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ale:  1—Always true; 2—Trus most of the time; 3—Sometimes true; 4—Rarely true; 5—Never true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D1B10-D80C-4487-82A3-76BD2AF31F78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responsibility for children’s ministry first belongs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26636-14D3-4044-91EA-8843E57A5255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3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ripture is the foundation of our content; relevance follow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criptural content is the primary criteria in choosing curricula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high value they place o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Learning Biblical truth is the foundational objective for all ag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Relevance to life is the basis for the application of Bible tru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67537-8FC3-4753-9833-D0F9D6468333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4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piritual training of children is the core lifestyle of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Parents receive regular, specific training on how to integrate God’s Word into their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Materials for the home are promoted and made available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Scripture memorization is a regular discipline encouraged in children’s ministry and in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4284F-6255-473A-8D80-480005BA4383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5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Every child feels safe and loved at all tim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’s ministry workers are trained to build and maintain a healthy, proper relationship with stud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 protection policies and procedures are defined and implemented consistentl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F0A84-3607-404F-92A4-2E47F0226164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6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serve God as soon as they are read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Opportunities abound for children to serve God in the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126D-B9EF-434F-AFEB-C921D10C340F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7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’s workers communicate the gospel with clarity and urgenc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 regularly hear the gospel message and are allowed to respond as the Holy Spirit prompts them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Invitation methods do not confuse the child or muddle the messag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1C764-2FCB-4C73-A189-26315E333A74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8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have regular opportunities to trust in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Evangelism of children is a priority of the church leadership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own children to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34356-0FAF-46AD-87D3-3945AD3BBF63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BAC25-F83A-432F-B115-E8877D9744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6DD4B-7427-44B6-8313-1AA0334A4B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DA76A-FC91-436A-975E-A6713AF487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1B460-C52A-46A2-94FA-EB66EACDB0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E96DC-4725-40C8-B48B-16BD189518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D9EB0-702C-40B6-BF0C-8F73DAB403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767E3-DCC9-4D1A-AF56-76B5C47821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AFE14-284F-4A0E-BE8D-434D60B87F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155DD-2151-4632-9A6D-5CE256539C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72E48-2B28-4AFA-81C6-85A8FE2CA5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D7A01-1080-47CD-84AC-CE2C641305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ED04A-2F48-40E6-9D7E-28525B8332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8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8-</a:t>
            </a:r>
            <a:fld id="{F576DA8D-D756-4943-B422-241FDBF7B9C5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Tahoma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741840" y="4354560"/>
            <a:ext cx="5402160" cy="13032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Assessing Your</a:t>
            </a:r>
            <a:br>
              <a:rPr sz="3800"/>
            </a:b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Children’s Ministry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5F55FD78-C5AE-4C07-85F0-4119E0DB9D47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Humanst521 BT"/>
              </a:rPr>
              <a:t>Rock-Solid Standards Scoring</a:t>
            </a:r>
            <a:endParaRPr b="1" lang="en-US" sz="3400" spc="-1" strike="noStrike">
              <a:solidFill>
                <a:srgbClr val="ffffff"/>
              </a:solidFill>
              <a:latin typeface="Humanst521 BT"/>
            </a:endParaRPr>
          </a:p>
        </p:txBody>
      </p:sp>
      <p:graphicFrame>
        <p:nvGraphicFramePr>
          <p:cNvPr id="211" name="Object 4"/>
          <p:cNvGraphicFramePr/>
          <p:nvPr/>
        </p:nvGraphicFramePr>
        <p:xfrm>
          <a:off x="-1054080" y="1488960"/>
          <a:ext cx="10607760" cy="568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54080" y="1488960"/>
                    <a:ext cx="10607760" cy="56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2F5904C0-8245-4D34-863B-1246BEE8A079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E23476EA-64F6-49B3-BD49-1B775959DA72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0" name="Rectangle 80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acility use and conditions reflect the importance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1" name="Rectangle 108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2" name="Rectangle 109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3" name="Rectangle 110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budgeting reflects a priority o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1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Ministering to children is a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high priorit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0" y="2405160"/>
            <a:ext cx="1924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Text Box 64"/>
          <p:cNvSpPr/>
          <p:nvPr/>
        </p:nvSpPr>
        <p:spPr>
          <a:xfrm>
            <a:off x="0" y="335124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8" name="Text Box 73"/>
          <p:cNvSpPr/>
          <p:nvPr/>
        </p:nvSpPr>
        <p:spPr>
          <a:xfrm>
            <a:off x="0" y="4280040"/>
            <a:ext cx="1790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Text Box 81"/>
          <p:cNvSpPr/>
          <p:nvPr/>
        </p:nvSpPr>
        <p:spPr>
          <a:xfrm>
            <a:off x="0" y="5132520"/>
            <a:ext cx="194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0" name="Group 102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01" name="Group 98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02" name="Group 99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03" name="Group 10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BD559A71-83AA-420A-8387-EC7140FDA255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-3240" y="5029200"/>
            <a:ext cx="9144000" cy="10206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0" y="2179800"/>
            <a:ext cx="9144000" cy="9554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-3240" y="3200400"/>
            <a:ext cx="9144000" cy="84312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4084560"/>
            <a:ext cx="9144000" cy="86832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2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The responsibility for children’s ministry first belongs to parent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149400" y="331308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3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4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1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1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1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05DB6933-93AA-4029-BD70-789319157BB6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Relevance to life is the basis for the applica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Bible tru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al content is the primary criteria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oosing curricula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high value they place o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Learning Biblical truth is the foundational objectiv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or all ag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3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cripture is the foundation of our content; relevance follow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3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3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33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19C3C17B-2AE6-4687-8808-6063C0C7DA56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-3240" y="5141880"/>
            <a:ext cx="9144000" cy="8175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e memorization is a regular discipline encouraged in children’s ministry and in the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regular, specific training on how to integrate God’s Word into their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Materials for the home are promoted and made available to par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4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piritual training of children is the core lifestyle of the home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152280" y="422280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149400" y="5132520"/>
            <a:ext cx="1774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4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4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4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48" name="Group 30"/>
          <p:cNvGrpSpPr/>
          <p:nvPr/>
        </p:nvGrpSpPr>
        <p:grpSpPr>
          <a:xfrm>
            <a:off x="344520" y="5532480"/>
            <a:ext cx="1387440" cy="317520"/>
            <a:chOff x="34452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B35A8F51-CA4C-4E2C-8341-CDFC5B81FFE6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-3240" y="5197320"/>
            <a:ext cx="9144000" cy="86868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0" y="2149560"/>
            <a:ext cx="9144000" cy="98568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-3240" y="3230640"/>
            <a:ext cx="9144000" cy="10206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workers are trained to build and maintain a healthy, proper relationship with stud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 protection policies and procedures are defined and implemented consistentl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5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Every child feels safe and loved at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all times.</a:t>
            </a:r>
            <a:r>
              <a:rPr b="1" lang="en-US" sz="2400" spc="-1" strike="noStrike">
                <a:solidFill>
                  <a:srgbClr val="808000"/>
                </a:solidFill>
                <a:latin typeface="Humanst521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Text Box 22"/>
          <p:cNvSpPr/>
          <p:nvPr/>
        </p:nvSpPr>
        <p:spPr>
          <a:xfrm>
            <a:off x="212760" y="4344840"/>
            <a:ext cx="1711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9" name="Text Box 29"/>
          <p:cNvSpPr/>
          <p:nvPr/>
        </p:nvSpPr>
        <p:spPr>
          <a:xfrm>
            <a:off x="149400" y="5132520"/>
            <a:ext cx="1850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6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6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62" name="Group 23"/>
          <p:cNvGrpSpPr/>
          <p:nvPr/>
        </p:nvGrpSpPr>
        <p:grpSpPr>
          <a:xfrm>
            <a:off x="271440" y="4718160"/>
            <a:ext cx="1387440" cy="317520"/>
            <a:chOff x="271440" y="4718160"/>
            <a:chExt cx="1387440" cy="317520"/>
          </a:xfrm>
        </p:grpSpPr>
      </p:grpSp>
      <p:grpSp>
        <p:nvGrpSpPr>
          <p:cNvPr id="163" name="Group 30"/>
          <p:cNvGrpSpPr/>
          <p:nvPr/>
        </p:nvGrpSpPr>
        <p:grpSpPr>
          <a:xfrm>
            <a:off x="268200" y="5570640"/>
            <a:ext cx="1387440" cy="317520"/>
            <a:chOff x="268200" y="557064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2F4BFC7A-204C-41CE-8EAB-E6075380EE9E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-3240" y="5165640"/>
            <a:ext cx="9144000" cy="83844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0" y="2239920"/>
            <a:ext cx="9144000" cy="89532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pportunities abound for children to serve Go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 the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-3240" y="3200400"/>
            <a:ext cx="9144000" cy="106668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6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serve God as soon as they are read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52280" y="240516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149400" y="3313080"/>
            <a:ext cx="1831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3" name="Text Box 22"/>
          <p:cNvSpPr/>
          <p:nvPr/>
        </p:nvSpPr>
        <p:spPr>
          <a:xfrm>
            <a:off x="182520" y="4344840"/>
            <a:ext cx="1817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4" name="Text Box 29"/>
          <p:cNvSpPr/>
          <p:nvPr/>
        </p:nvSpPr>
        <p:spPr>
          <a:xfrm>
            <a:off x="149400" y="5132520"/>
            <a:ext cx="181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7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7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77" name="Group 23"/>
          <p:cNvGrpSpPr/>
          <p:nvPr/>
        </p:nvGrpSpPr>
        <p:grpSpPr>
          <a:xfrm>
            <a:off x="271440" y="4699080"/>
            <a:ext cx="1387440" cy="363240"/>
            <a:chOff x="271440" y="4699080"/>
            <a:chExt cx="1387440" cy="363240"/>
          </a:xfrm>
        </p:grpSpPr>
      </p:grpSp>
      <p:grpSp>
        <p:nvGrpSpPr>
          <p:cNvPr id="17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C49BC624-F83B-4818-9B4B-0012BB8A651D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0" y="5276880"/>
            <a:ext cx="9144000" cy="8589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vitation methods do not confuse the child or muddle the messag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0" y="2274840"/>
            <a:ext cx="9144000" cy="72720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are trained in how to presen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gospel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-3240" y="3124080"/>
            <a:ext cx="9147240" cy="10098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0" y="4210200"/>
            <a:ext cx="9144000" cy="97128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gularly hear the gospel message and are allowed to respond as the Holy Spirit prompts them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7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’s workers communicate the gospel with clarity and urgenc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0" y="2343240"/>
            <a:ext cx="1895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9" name="Text Box 29"/>
          <p:cNvSpPr/>
          <p:nvPr/>
        </p:nvSpPr>
        <p:spPr>
          <a:xfrm>
            <a:off x="247680" y="5322960"/>
            <a:ext cx="1714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90" name="Group 9"/>
          <p:cNvGrpSpPr/>
          <p:nvPr/>
        </p:nvGrpSpPr>
        <p:grpSpPr>
          <a:xfrm>
            <a:off x="290520" y="2709720"/>
            <a:ext cx="1387440" cy="317520"/>
            <a:chOff x="290520" y="2709720"/>
            <a:chExt cx="1387440" cy="317520"/>
          </a:xfrm>
        </p:grpSpPr>
      </p:grpSp>
      <p:grpSp>
        <p:nvGrpSpPr>
          <p:cNvPr id="19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9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93" name="Group 30"/>
          <p:cNvGrpSpPr/>
          <p:nvPr/>
        </p:nvGrpSpPr>
        <p:grpSpPr>
          <a:xfrm>
            <a:off x="344520" y="5684760"/>
            <a:ext cx="1387440" cy="317520"/>
            <a:chOff x="344520" y="568476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BFC11226-6546-4B07-A49F-849893F2DB36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Evangelism of children is a priority of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leadership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wn children to Christ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0" y="4130640"/>
            <a:ext cx="9144000" cy="91440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8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have regular opportunities to trust in Christ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2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4" name="Text Box 29"/>
          <p:cNvSpPr/>
          <p:nvPr/>
        </p:nvSpPr>
        <p:spPr>
          <a:xfrm>
            <a:off x="149400" y="513252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20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20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20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20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16Z</dcterms:modified>
  <cp:revision>67</cp:revision>
  <dc:subject/>
  <dc:title>The Pattern of Teaching Children</dc:title>
</cp:coreProperties>
</file>