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4097-38F8-4A24-9D4A-432F639EB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BD58-25F3-4D26-95D3-2A2AA565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7196-14BE-4C18-B0AD-8EA8D6D12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4497-C400-4A64-9678-F08786845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9135-C817-4EA9-B5A7-E5413E44F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38BAD-BAAA-445F-97DA-FF27286B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5422-3223-4DCB-BF2C-F7B0E9D8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0208-E9AC-4F77-ADA3-1BDAED48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D566-649F-420F-B3AF-5BC224F8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9AEC-F49E-4D8A-B315-84290096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26C5-19A4-4F84-B94D-5965D352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0BBD-58BE-4280-91F5-4C88FE6F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E3C0-2423-4EBD-9E0F-ECFEE538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F20C-2C4B-42ED-8C59-65472162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351B4-CCC9-4AD5-9D45-F3BBFE17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A63A-E5E4-41F9-8FB2-D9783DD17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1978-527D-4758-AA06-8BF21B2B1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1455-6EFF-4AEE-81C5-BB46C167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ECB6-5D0C-4F23-B648-8D1FD181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3811-C842-43FA-BC00-5A92E140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6B5E-954E-4537-9240-AED81E81D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4129-009B-49F5-AAB6-8DF872BD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8595-591A-49AA-868F-FD21CF16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AF6F-38F9-4FB1-A467-03D81162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1924-B87F-414E-B36B-43980A9D3AE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B61D-A10A-4217-9E77-0F6EED2D8AF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 rot="19542000"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Impact"/>
              </a:rPr>
              <a:t>Evangelizando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3" name="Picture 5" descr="Copy of Chile Union ChM Advisory 133"/>
          <p:cNvPicPr/>
          <p:nvPr/>
        </p:nvPicPr>
        <p:blipFill>
          <a:blip r:embed="rId1"/>
          <a:stretch/>
        </p:blipFill>
        <p:spPr>
          <a:xfrm>
            <a:off x="4716360" y="0"/>
            <a:ext cx="1752840" cy="1170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hildren of the world"/>
          <p:cNvPicPr/>
          <p:nvPr/>
        </p:nvPicPr>
        <p:blipFill>
          <a:blip r:embed="rId2"/>
          <a:stretch/>
        </p:blipFill>
        <p:spPr>
          <a:xfrm rot="19542000">
            <a:off x="2000160" y="3259080"/>
            <a:ext cx="5867640" cy="696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FerreyraMe\Documents\diseños PP\LOGOS_ADVENTISTAS\LOGOS_DEPTO\MINISTÉRIO_CRIANÇA\logo_Trab_esp.jpg"/>
          <p:cNvPicPr/>
          <p:nvPr/>
        </p:nvPicPr>
        <p:blipFill>
          <a:blip r:embed="rId3"/>
          <a:stretch/>
        </p:blipFill>
        <p:spPr>
          <a:xfrm>
            <a:off x="34920" y="-27000"/>
            <a:ext cx="4681440" cy="1197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7872840" y="6397560"/>
            <a:ext cx="1221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. Ferreyr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inisterio Personal - D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P-EI 00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25" name="9 - Cooperación.wmv" descr=""/>
          <p:cNvPicPr/>
          <p:nvPr/>
        </p:nvPicPr>
        <p:blipFill>
          <a:blip r:embed="rId3"/>
          <a:stretch/>
        </p:blipFill>
        <p:spPr>
          <a:xfrm>
            <a:off x="1547640" y="9079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30" name="10 - Da una Sonrisa.wmv" descr=""/>
          <p:cNvPicPr/>
          <p:nvPr/>
        </p:nvPicPr>
        <p:blipFill>
          <a:blip r:embed="rId3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3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Requisit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ener un equipo de 2 a 6 personas capacitad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Buscar un loc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lanear, organizar, preparar bien el programa par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cer una buena promoción</a:t>
            </a:r>
            <a:r>
              <a:rPr b="1" lang="es-PE" sz="3200" spc="-1" strike="noStrike">
                <a:solidFill>
                  <a:srgbClr val="0d0d0d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do visualizado o ilustrad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articipación plena y continu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mar en cuenta la regla 1 x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Variedad, novedad, agilida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étodo directo e indirecto, cambiar apropiada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Uso de los cinco sentid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7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óngale un nombre 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8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ucha ora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9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Escoger el tema central y enfatizar cada día ese te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0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Decidir la extensión del progra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1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ga un programa Cristo céntrico y               Niño céntr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 – La Clave Secreta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 – Temar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Honradez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cortesí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servicio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Abnegación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verdad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Perdón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obedienci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- Carta de Dio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Fin de sema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Este modelo lo puede usar en coordinación con la escuela e invitar a los padres de famili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Historia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Conociendo al Autor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Carta de Dios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Music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scoja un canto y sobre el maneje el temario para la seman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Trabajo en grupos…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Prepare un temario basado en el canto que acaba de escuch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11" name="LA SEMANA.mp3" descr=""/>
          <p:cNvPicPr/>
          <p:nvPr/>
        </p:nvPicPr>
        <p:blipFill>
          <a:blip r:embed="rId3"/>
          <a:stretch/>
        </p:blipFill>
        <p:spPr>
          <a:xfrm>
            <a:off x="4859280" y="234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gozo_culto_joe.mp3" descr=""/>
          <p:cNvPicPr/>
          <p:nvPr/>
        </p:nvPicPr>
        <p:blipFill>
          <a:blip r:embed="rId4"/>
          <a:stretch/>
        </p:blipFill>
        <p:spPr>
          <a:xfrm>
            <a:off x="4859280" y="285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41015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9515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entro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oe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rquesta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Ri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Jueg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frend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odelito bíblic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nto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redican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Adivinanz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arch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 fuera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salu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limpiez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Visita a un asil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606060"/>
                </a:solidFill>
                <a:latin typeface="Arial"/>
              </a:rPr>
              <a:t>La idea es que los niños participen de cualquier actividad que tenga que ver con la testificación y para que pierdan el miedo a la gente, hacerlos mas sociabl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3:46:03Z</dcterms:created>
  <dc:creator>Melchor Ferreyra</dc:creator>
  <dc:description/>
  <dc:language>en-US</dc:language>
  <cp:lastModifiedBy>Melchor Ferreyra</cp:lastModifiedBy>
  <dcterms:modified xsi:type="dcterms:W3CDTF">2012-06-30T02:56:07Z</dcterms:modified>
  <cp:revision>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51033</vt:lpwstr>
  </property>
</Properties>
</file>